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F72-5AF0-4CD1-A046-1FA8CD98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2D3-8504-45BE-9B0A-DA544F89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245-C6EA-402D-A81C-6B1EF8C6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1C9-C3C2-4EB8-959F-BD06DB24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41EF-253E-4910-8EDF-89D3C2F9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9CB2-894D-4E78-BD93-3D43EB65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0514-6E30-4D9B-832D-0E765923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F6C3-00BF-415B-8E45-25276CFD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9225-2C6B-4EB4-B693-ACF4BFFD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F61D-40B5-47A6-84EC-D852237E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F218-BA29-4AAE-ABC4-690AE8B7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882-9F34-4CB5-B647-CBFDA3BA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1336-A5D3-41BE-99B1-BC12966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B53A-218C-40BB-86E9-C2BD1D1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8E9F-DADE-41F7-8437-F7127E39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E157-B7AE-418E-B8FA-70B05E59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23AC-7A01-4C2C-8789-959FBDCD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9C1-B33D-408E-B0BE-1B57896F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F27-2696-48B9-BAC0-38FEEDB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C88-9B8D-4877-8302-DED64AC1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B2A-D507-4ACB-8688-D3E9000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136-7FBB-477B-AF4E-A38543D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B92-A431-4B7E-9DCD-18DE8B88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AE1-3D55-4797-81DF-145BB35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480-937E-4A65-9C8F-2887309F04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7FC-5023-4A58-8E69-F069B6C66A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Script MT Bold"/>
              </a:rPr>
              <a:t>And now it’s time for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Notes about the Short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ri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the most exciting part of the story where the main character must finally face the conflict.  The reader can feel that a major decision is com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2120" y="3809520"/>
            <a:ext cx="350496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3680" y="599616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3640" y="531036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7600" y="4319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000" y="363384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38800" y="5715000"/>
            <a:ext cx="501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chitect"/>
              </a:rPr>
              <a:t>The crisis leads to the…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limax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the high point of the story.  The climax is when the main character begins to solve her problems and relief is in s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90720" y="3962520"/>
            <a:ext cx="35049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680" y="54626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40" y="500544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8480" y="4319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7640" y="378612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87160" y="3557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LI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Falling action / Denou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At this point, the character is solving the problems created by the confli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990720" y="3962520"/>
            <a:ext cx="35049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680" y="54626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2240" y="500544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28480" y="4319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7640" y="378612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87160" y="3557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LI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962520"/>
            <a:ext cx="281952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99800" y="40147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Denou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chitect"/>
              </a:rPr>
              <a:t>(such a cool wor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where we leave the story….it is the final outcome…good or b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990720" y="3962520"/>
            <a:ext cx="35049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3680" y="54626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2240" y="500544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28480" y="4319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67640" y="378612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87160" y="3557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LI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3962520"/>
            <a:ext cx="281952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7760" y="401472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Denou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98920" y="5310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intStroke"/>
              </a:rPr>
              <a:t>Coming soon to this scree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intStroke"/>
              </a:rPr>
              <a:t>Ton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intStroke"/>
              </a:rPr>
              <a:t>Charac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intStroke"/>
              </a:rPr>
              <a:t>Point of Vie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chitect"/>
              </a:rPr>
              <a:t>A Short Story is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A short story is….a story that is shor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Although it is shorter than a novel, it still contains many of the same important parts a reader would see in a longer piece of wri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chitect"/>
              </a:rPr>
              <a:t>Pl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plot of a short story is really just the order of events.  A good writer or storyteller will try to arrange her ideas to make a sensible pl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re are a few major parts to a short story plot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introduction is the beginning of the story where the characters are introduced and the setting is explained.  A well-written introduction will also give a hint about the </a:t>
            </a:r>
            <a:r>
              <a:rPr b="0" i="1" lang="en-US" sz="3200" spc="-1" strike="noStrike">
                <a:solidFill>
                  <a:srgbClr val="ffffff"/>
                </a:solidFill>
                <a:latin typeface="Architect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 of the story (more on that lat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onfli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conflict is what creates a story.  Usually it is a struggle or problem that the main character must work to overcome.  Without conflict, there is no 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re are 3 major types of conflict we will look 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haracter vs. Charac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main character struggles against another characte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81280" y="3200400"/>
            <a:ext cx="1905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haracter vs. Na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main character struggles against the forces of nature (ie.  An encounter w/ a wild animal, or getting lost in a stor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1715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haracter vs. herself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main character struggles against some type of internal problem like a difficult decision or an ill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6385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Rising A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where the conflict creates problems for the character to deal with.  As the action rises, the conflict and tension build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523880" y="3276720"/>
            <a:ext cx="274320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5310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840" y="53103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2040" y="365760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48880" y="46245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0:13:36Z</dcterms:created>
  <dc:creator>Administrator</dc:creator>
  <dc:description/>
  <dc:language>en-US</dc:language>
  <cp:lastModifiedBy>Administrator</cp:lastModifiedBy>
  <dcterms:modified xsi:type="dcterms:W3CDTF">2006-09-12T15:50:46Z</dcterms:modified>
  <cp:revision>7</cp:revision>
  <dc:subject/>
  <dc:title>And now it’s time for…</dc:title>
</cp:coreProperties>
</file>